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03E-7520-484B-8E99-0FAB55AE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C21-1A41-4580-B3E9-809A5C4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566-FE51-4D17-88F2-038074EF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812-8FEF-42A6-93E2-E129A759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AD4-783C-468C-9FFC-016A5C0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45A-0F6B-4323-B761-67E07F5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606-6EFA-4808-8F0B-CB35E0D1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FF5-8DD0-4128-AAFA-8921B0C9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B9F-3A67-4AE9-BC1E-3DCF82EF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B0C-16B6-4F2E-B6FD-3833BD6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0B6-8599-4859-8CB2-DB9F151C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2B1-333C-486F-9A7B-C1F40E8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430A-74B4-4C64-9A4A-4D275496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127080"/>
            <a:ext cx="4948200" cy="574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NATURAL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LEMENT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Limestone Cliffts in Sera Arrabida Nat Park"/>
          <p:cNvPicPr/>
          <p:nvPr/>
        </p:nvPicPr>
        <p:blipFill>
          <a:blip r:embed="rId1"/>
          <a:stretch/>
        </p:blipFill>
        <p:spPr>
          <a:xfrm>
            <a:off x="1984320" y="0"/>
            <a:ext cx="4349880" cy="581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5800" y="5705640"/>
            <a:ext cx="15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Clif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52360"/>
            <a:ext cx="8136000" cy="538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4160" y="5734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1080" cy="534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31240" y="5303880"/>
            <a:ext cx="237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14680" y="1171440"/>
            <a:ext cx="5715000" cy="451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29160" y="5648400"/>
            <a:ext cx="14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66880" y="874800"/>
            <a:ext cx="4497480" cy="4430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72000" y="5059440"/>
            <a:ext cx="209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67040" y="1476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4160" y="566100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1:01:03Z</dcterms:created>
  <dc:creator>I.E.S. FEDERICO GARCIA LORCA</dc:creator>
  <dc:description/>
  <dc:language>en-US</dc:language>
  <cp:lastModifiedBy>rmi</cp:lastModifiedBy>
  <dcterms:modified xsi:type="dcterms:W3CDTF">2010-02-08T12:59:12Z</dcterms:modified>
  <cp:revision>4</cp:revision>
  <dc:subject/>
  <dc:title>Diapositiva 1</dc:title>
</cp:coreProperties>
</file>